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009-F725-409F-BCD6-76EC0C97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EF9-4BE8-48A1-8E9A-F73FD66E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33D-7B1D-4A09-B114-63E7FA6D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A3C-F16B-4967-A95C-6B55E266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819-A088-450B-B870-5DE95FC2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AE6-1231-4C62-A149-85866767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ED3-ECE1-4D22-AE61-2C6CE5D0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CCF-3359-4BD3-B2DB-EA1F6E03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90A-DB84-477D-8F46-16F9C55C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160-DC0E-46D8-A7CE-AAAD3A5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FF2-F2F7-47F2-AF4E-736B746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5003-9964-4F6B-B9A0-28636A31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984B-151C-45ED-8263-6E9B81D92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9933"/>
                </a:solidFill>
                <a:latin typeface="Arial"/>
              </a:rPr>
              <a:t>Jupiter und seine großen (Galilei‘schen) Monde</a:t>
            </a:r>
            <a:br>
              <a:rPr sz="4000"/>
            </a:br>
            <a:br>
              <a:rPr sz="4000"/>
            </a:br>
            <a:r>
              <a:rPr b="0" lang="de-DE" sz="3200" spc="-1" strike="noStrike">
                <a:solidFill>
                  <a:srgbClr val="ff9933"/>
                </a:solidFill>
                <a:latin typeface="Arial"/>
              </a:rPr>
              <a:t>Die Verfinsterungen von Io und die endliche Ausbreitung des Lich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1840" y="1876320"/>
            <a:ext cx="616572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35160" y="5030640"/>
            <a:ext cx="38102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33"/>
                </a:solidFill>
                <a:latin typeface="Arial"/>
              </a:rPr>
              <a:t>So würde die Bewegung von Io aussehen, wenn die Lichtgeschwindigkeit um den Faktor 10000 kleiner wä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7984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ur Wahrnehm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9933"/>
                </a:solidFill>
                <a:latin typeface="Arial"/>
              </a:rPr>
              <a:t>So läuft Io tatsächlich um Jupiter</a:t>
            </a:r>
            <a:br>
              <a:rPr sz="4000"/>
            </a:br>
            <a:r>
              <a:rPr b="0" lang="de-DE" sz="4000" spc="-1" strike="noStrike">
                <a:solidFill>
                  <a:srgbClr val="ff9933"/>
                </a:solidFill>
                <a:latin typeface="Arial"/>
              </a:rPr>
              <a:t>(nicht beobachtbar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36446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ur wahre Stell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33"/>
                </a:solidFill>
                <a:latin typeface="Arial"/>
              </a:rPr>
              <a:t>Vergleich zwischen wahrgenommerner und tatsächlicher Io-Beweg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354456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hre und scheinbare Stellu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lick von Norden auf den Lauf der Erde um die So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411948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komplet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08:13:25Z</dcterms:created>
  <dc:creator>udo backhaus</dc:creator>
  <dc:description/>
  <dc:language>en-US</dc:language>
  <cp:lastModifiedBy>Udo Backhaus</cp:lastModifiedBy>
  <dcterms:modified xsi:type="dcterms:W3CDTF">2009-06-08T16:11:37Z</dcterms:modified>
  <cp:revision>6</cp:revision>
  <dc:subject/>
  <dc:title>Folie 1</dc:title>
</cp:coreProperties>
</file>